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BEF-14B3-44C1-8480-4A1D1832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EF9-A43C-4F55-9DC6-E168D12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CF4-2CFE-4E79-A16C-3BA0F0E7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9E3-E2BC-4E4A-9E40-3970E9E9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EBF-E558-434C-A9F5-5AC71AA3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4F8-F233-4361-B9C7-607ADE2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61F-2AE2-4E0F-B04C-94CE46D2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3BB-827E-49AE-92C7-2F1FE52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2F1-5323-4049-9D9E-5057D4F8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04B-A1C8-40AF-93B4-707C8AE3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AE8-371E-4052-80FA-92F2323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D37-59BC-4268-8CC7-BCB36F63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7E0-24EE-44FB-B476-F07091C04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Briggs Burle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352680" y="13716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eek city-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693800"/>
            <a:ext cx="9144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828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1665360"/>
            <a:ext cx="914400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828800" y="14479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ea of land nearly surrounded by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195732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981080" y="1371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685800" y="12193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d of government that is run by a small group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193356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828800" y="15238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eltered place along a coast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174636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49220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914400" y="1219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19320" y="2590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er or his count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154320"/>
            <a:ext cx="9144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37160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666880" y="13716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97496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219320" y="12193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ear evidence and make decisions in a court of 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914400" y="14479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5:14Z</dcterms:modified>
  <cp:revision>95</cp:revision>
  <dc:subject/>
  <dc:title>Ancient Greece</dc:title>
</cp:coreProperties>
</file>